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240-9D09-41FD-A199-DFE96635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DF8-8AA4-4A9D-A92F-5193B75D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2EA-CC6F-4AAD-A7EB-980F4A66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973-DDCD-4190-8EAC-1F479EA6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2C21-B1F8-4C78-8F20-0EFC3C08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7F0C-7295-412D-A88D-121DF998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A47-0FAF-4C26-8CAD-13E33964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CDCF-6706-4E13-BFC7-2548D336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B934-B433-4482-BCD2-6981E4B2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FEE7-08B7-482C-AB8B-D9B2849A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1CF4-F380-4D8D-A2FF-3F37A22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77D-60DB-4BFE-90FD-4EB337ED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05A-02F3-448C-ADF0-73C6DDD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808A-4C06-4CC0-94E0-664D06AD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A710-8F65-439D-9078-B84E2B62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C30-86C4-4B30-9438-1EB7780A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35E3-1DBE-4944-9F08-A45A8802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0FF-5D48-4EA0-BA9E-5EE4A76B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3BC-B34F-47E6-B171-F3F1CACE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B38-5F27-44E1-82E5-06A18AA5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871-1A30-4758-9A62-8AE7657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24C-D9E3-4C17-891F-F7D505C3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6E2-C52D-4CD2-94D1-501C375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FF0-3B5C-4002-8107-AB423D2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ABE-2AF7-4990-9519-D734DA5AC63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1E72-490C-45ED-A3E3-4E12858B09D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5280" y="1557360"/>
            <a:ext cx="84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 общее кратно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 общий делител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765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907920"/>
            <a:ext cx="0" cy="345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88000" y="105264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80000" y="2060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47640" y="587700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2*3=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76360" y="522936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16000" y="90792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87280" y="1916280"/>
            <a:ext cx="454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84360" y="1989000"/>
            <a:ext cx="45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580000" y="981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0880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Нахождение наименьшего общего кратного натуральных чисел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7331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к ним недостающие множители из разложений остальных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получившихся множит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62472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Блиц-</a:t>
            </a: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опро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299196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Отметь знаком «+» правильные утверждения и знаком «-» ошиб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1368360" cy="2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1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кратн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2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– делитель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3) 8 кратно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4) Число 36 является наименьшим общим кратным   чисел 12 и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5) Числа 22, 44, 66, 88 кратны  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6) НОД(8;16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7) НОК(16;32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8) Число 18 кратно 6, значит НОД(18;6) = 1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9) Если два числа взаимно простые, то их наименьшее общее кратное равно произведению данны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107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95640" y="1773360"/>
          <a:ext cx="4032000" cy="4752360"/>
        </p:xfrm>
        <a:graphic>
          <a:graphicData uri="http://schemas.openxmlformats.org/drawingml/2006/table">
            <a:tbl>
              <a:tblPr/>
              <a:tblGrid>
                <a:gridCol w="2058480"/>
                <a:gridCol w="197352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63640" y="2133720"/>
            <a:ext cx="60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2276640"/>
            <a:ext cx="7777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елителем натурального числ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называют натуральное число, на которо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делится без оста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2:  1,2,3,4,6,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16000" y="907920"/>
            <a:ext cx="7056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ий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ь  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00000" y="692280"/>
            <a:ext cx="1584000" cy="1131840"/>
            <a:chOff x="900000" y="692280"/>
            <a:chExt cx="1584000" cy="11318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90000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33164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684360" y="1916280"/>
            <a:ext cx="1584000" cy="1131840"/>
            <a:chOff x="684360" y="1916280"/>
            <a:chExt cx="1584000" cy="11318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8436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11600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95280" y="1197000"/>
            <a:ext cx="1584000" cy="1131840"/>
            <a:chOff x="395280" y="1197000"/>
            <a:chExt cx="1584000" cy="113184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39528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82692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187280" y="1268280"/>
            <a:ext cx="1584000" cy="1131840"/>
            <a:chOff x="1187280" y="1268280"/>
            <a:chExt cx="1584000" cy="113184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118728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8"/>
            <a:stretch/>
          </p:blipFill>
          <p:spPr>
            <a:xfrm>
              <a:off x="161892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724360" y="1052640"/>
            <a:ext cx="1812960" cy="184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4643280" y="1125360"/>
            <a:ext cx="1812960" cy="184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020000" y="1125360"/>
            <a:ext cx="1812960" cy="18450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1619280" y="1844640"/>
            <a:ext cx="1584000" cy="1131840"/>
            <a:chOff x="1619280" y="1844640"/>
            <a:chExt cx="1584000" cy="1131840"/>
          </a:xfrm>
        </p:grpSpPr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161928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205092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1979640" y="836640"/>
            <a:ext cx="1584000" cy="1131840"/>
            <a:chOff x="1979640" y="836640"/>
            <a:chExt cx="1584000" cy="1131840"/>
          </a:xfrm>
        </p:grpSpPr>
        <p:pic>
          <p:nvPicPr>
            <p:cNvPr id="175" name="" descr=""/>
            <p:cNvPicPr/>
            <p:nvPr/>
          </p:nvPicPr>
          <p:blipFill>
            <a:blip r:embed="rId14"/>
            <a:stretch/>
          </p:blipFill>
          <p:spPr>
            <a:xfrm>
              <a:off x="197964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5"/>
            <a:stretch/>
          </p:blipFill>
          <p:spPr>
            <a:xfrm>
              <a:off x="241128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 txBox="1"/>
          <p:nvPr/>
        </p:nvSpPr>
        <p:spPr>
          <a:xfrm>
            <a:off x="7667640" y="342900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32000" y="3573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>
            <a:off x="327672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2"/>
          <a:stretch/>
        </p:blipFill>
        <p:spPr>
          <a:xfrm>
            <a:off x="4356000" y="5300640"/>
            <a:ext cx="1303560" cy="15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5435640" y="5300640"/>
            <a:ext cx="1303200" cy="155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27280" y="2997360"/>
            <a:ext cx="45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ако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ьше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личество ребят можно разделить поровну 12 яблок и 9 конф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71640" y="836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692280"/>
            <a:ext cx="0" cy="47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1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400536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19640" y="83664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76500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659640" y="9079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64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88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35640" y="3068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371628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587700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 (9,12)=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5573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333360"/>
            <a:ext cx="799128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Нахождение наибольшего общего дел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ркнуть те, которые не входят в разложение других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оставшихся множ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116000" y="836640"/>
            <a:ext cx="6335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ное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763640" y="189000"/>
            <a:ext cx="4766760" cy="3680280"/>
            <a:chOff x="1763640" y="189000"/>
            <a:chExt cx="4766760" cy="36802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 rot="1392600">
              <a:off x="4427280" y="47592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203640" y="18900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1763640" y="54936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 rot="19855200">
              <a:off x="3347640" y="1700280"/>
              <a:ext cx="181296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 rot="16200000">
            <a:off x="3996360" y="1195560"/>
            <a:ext cx="358920" cy="439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4525920"/>
            <a:ext cx="3203640" cy="1987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940360" y="4317840"/>
            <a:ext cx="2759040" cy="2300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 rot="5400000">
            <a:off x="1140480" y="3691440"/>
            <a:ext cx="6174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7045920" y="3691800"/>
            <a:ext cx="617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3860640"/>
            <a:ext cx="367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ое количество конфет нужно взять, чтобы их можно было поделить и между тремя, и между шестью детьми поров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25:03Z</dcterms:created>
  <dc:creator>Loner-XP</dc:creator>
  <dc:description/>
  <dc:language>en-US</dc:language>
  <cp:lastModifiedBy>*****</cp:lastModifiedBy>
  <dcterms:modified xsi:type="dcterms:W3CDTF">2011-10-07T10:38:37Z</dcterms:modified>
  <cp:revision>19</cp:revision>
  <dc:subject/>
  <dc:title>Слайд 1</dc:title>
</cp:coreProperties>
</file>